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6CD-B11C-406F-BABC-64BF7F2B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823-612C-4F58-82B0-ACD400E0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331-9EA8-4A3C-97CE-03EA7ACA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E1E-1106-419F-8420-EF31E8B4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E13-32F4-4DAB-B9BF-92D67BA6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155-606A-48AB-915F-0AFC15B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890-EE24-4180-9E2A-52B04F01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D55-CA6E-46D7-82B1-666A079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E57-A569-437A-87B7-8ACD58F6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044-EDC1-4408-903C-068E897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0CB-F472-4CD4-9DD3-A92200AE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B12-570E-4F15-8D10-BBC1453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0CB-7B09-4EC7-B68F-FFA73A9A8F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E120E18A-2C80-44F8-BE09-B86AA7D421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420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227160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881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r (pl.) the voice/sound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F6452E77-7FFB-4C9A-A10D-FAB851FEC0D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BAEB26CB-84E4-4AD8-ACCA-48CFAD88637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love God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E629AAF7-0912-4D61-B746-4A7493ABFA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ermitted to speak? (or is speaking allow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hip the holy God! (or ‘you are worshipping the holy G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3640" y="1616040"/>
            <a:ext cx="3772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ετε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D848D455-6FA7-4778-9C0C-2DBD9FC648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walk (s.; in general)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4B28EF15-3CFF-416E-A84C-0E414201524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CF16DF27-6CDC-4918-BE19-FE608B275E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1ECF2BBC-03FD-4FA0-98A8-56D5C45E44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Practice </a:t>
            </a:r>
            <a:fld id="{F749AFFB-5A30-4AAB-BF75-8A5F11159A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9-03-03T19:03:23Z</dcterms:modified>
  <cp:revision>43</cp:revision>
  <dc:subject/>
  <dc:title>Slide 1</dc:title>
</cp:coreProperties>
</file>